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124C-31E6-4E8E-9392-4317CE98F5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remember which part of Antarctica is nearest to another continent? Western – S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hings to you think they research? Biologists to research the seals, plants, penguins etc. Meteorologists to explore the weather – global warming, hole in the ozone, monitor the ice break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ides researchers what other jobs are people needed for in Antarctica? Cooks, doctors, nurses, technicians to maintain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on a base, can you think of the problems that might arise? Some getting sick  when they are iced in. 24 hours dark, no fresh food, severe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A99E-9497-424A-ACDB-339D60CE41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913B-D4AB-4415-8137-7CE900E5D1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tural greenhouse effect helps the Earth sta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a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get hotter.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oxygen in the air traps enough of the Sun’s heat to do this.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ays the same because animals breath it in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plants take i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A84E-D682-4DA6-9B35-40795BFBD5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1108-8F9A-4862-B22E-B9498B440E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hanced greenhouse effect helps the Earth stay warm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t ho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CO2 stays the same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we are burning 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gle of the sun in the sky is very low at the poles so the sun’s heat has to warm up a bigger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lbedo of snow is about 90% - which means 90% of the heat is reflected straight back out into space – unlike the sea with an albedo of 15% - that means 85% od the sun’s heat is absorbed – this is why the N Pole is warming up quicker than Antarctic – altho the Western Peninsular surrounded by sea is warming up quicker – melting ice sheets most on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air is clean – no specs of dust or pollution, or water vapour to trap and scatter reflected radiation — radiation that would warm the pola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re do CFCs fit in?– Chemicals called CFCs get up into the atmosphere and join with the extra oxygen atoms so ozone cannot be formed – this lets the UV light thr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CFCs so important? They do all sorts of job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llants for aeroso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ting foamed plastics like expanded polystyrene or polyurethane foa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solvents for dry cleaning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l degreasing purpo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we had to find other chemicals to do the same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o bad about UV light? – causes skin cancer/ cataracts ad may harm other animals and the plants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get better?  - Yes, because of the Montreal protocol the CFCs in the air should have broken down by 2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A93F-43AA-4E1A-A020-8A5A2B4ED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9AD2-2FA9-4E8A-8DC2-7D0B38C58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73B3-CC94-44F7-8DD8-EA7731FFD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689E-888E-4DF0-9962-D9E755B2A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7E9D-904D-4728-B84A-65FEC5A9E4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5A54-84E8-4B9C-B0B4-A285CE8F38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4475-20C3-4BC1-811A-7BA1361B9A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643B-AA53-4270-B8E2-B708B643DA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F76F-18B4-4A7F-B780-4A804BCBA5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A563-AB68-4B56-AF8C-64F155F4C4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7817-0159-4C49-9EA6-4F0447F7A6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700F-9C0D-48BE-AC4C-FFDF06C6B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B107-749F-4FF5-944B-F0A2759627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670F-E7ED-4989-B607-AB3DF84E4B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074D-A28B-498E-8201-DAFEBADBAA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EE58-2688-4D50-A251-A0E04D35A2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A2C6-4512-4EEE-B659-EFE382F473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60EB-D788-4A4C-8017-FEB3273E4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A98B-FAC8-4595-9ED4-FD798C900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84F6-C3FE-4294-BAA3-50D36C014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30F7-89F0-4C72-8A00-C472804A2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353E-9827-4EAD-8733-D7128140D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D33F-BF9E-4A99-A6AD-6BD5B1BC2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C778-BCB7-48B7-901D-F3DD8455F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07DE-5841-4CF1-BEC6-885B3863E0CE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FBC5-7C56-4B42-B35A-6B1BD3A571A2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last section of revision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 Antarctic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3687-F18C-46B7-A275-5720F5852F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2378160"/>
            <a:ext cx="7157880" cy="4435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7525080" cy="2525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89080" y="255420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vising Antarctic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B41F-DAC6-4F96-9A6D-244A09240C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reaty from 196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Key ideas – any country can carry out scientific researc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l testing of nuclear weapons and the dumping of radioactive waste is forbidden in Antarctic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 military activities are allowed in Antarctica – the continent must be used for peaceful purposes onl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aims to slices of Antarctica by individual countries are set aside so long as the Treaty exists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BB74-B6C3-4775-9C43-1D06464016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reaty from 196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addition, there have been additions that protect the flora and fauna of Antarctica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particular the Antarctic seals - both Ross and Antarctic fur seals are fully protected – the killing of other seals is tightly controlled – no hunting for skins of any typ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nvention on the Conservation of Antarctic Marine Living Resources (1982) controls the amount of fishing that is allowed in Antarctic waters by giving licences to fish up to a certain agreed limit (a quota)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405B-FEF7-4A9F-841D-25BB250B2A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any countries have bases in Antarctica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we know the only real justification is for scientific researc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kind of things to you think they research?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esides researchers what other jobs are people needed for in Antarctica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you were on a base, can you think of the problems that might arise, especially if you stay over the winter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8C2C-E3E4-400F-938E-461B689E1A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51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arth is covered by a blanket of ga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nergy from the Sun reaches the Earth’s surface, where some it is converted to heat energ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ost of the heat( blue arrows) is re-radiated towards space, but some is trapped by the greenhouse gases in the atmosphe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natural effect allows the Earth’s temperature to be kept at a level necessary to support lif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714760" cy="50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7C40-8ACF-485D-8A5C-A34871AC01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394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main Greenhouse Gas is Carbon Dioxid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Until the last 200 years, the amount of C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has remained stabl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is wh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427640" y="1197000"/>
            <a:ext cx="4228920" cy="4676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3624480"/>
            <a:ext cx="409896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ey Ide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natural greenhouse effect helps the Earth stay warm/get hotter. The carbon dioxide/oxygen in the air traps enough of the Sun’s heat to do this. The CO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stays the same because animals breath it in/out and plants take it in/ou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616E-A370-40AD-B7B9-A57A1200C1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then there is the Enhanced Greenhouse Effect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243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how this is different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uch more of the heat from the sun gets trapped in the atmosphe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the Earth gets hot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251320" y="1376280"/>
            <a:ext cx="303876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71E4-2A84-4870-985E-06041EF3E8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y is more heat getting trappe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4313160"/>
            <a:ext cx="84042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 are taking the stored carbon from the ground (oil and coal and gas) and burning i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releases the C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and so the main greenhouse gas is increas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195640" y="981000"/>
            <a:ext cx="4248000" cy="31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6C7F-71E9-4D91-BED1-11B26FDBA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these are the things that can happen if we increase the amount of greenhouses gas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1280" y="1821960"/>
            <a:ext cx="7705800" cy="2508480"/>
            <a:chOff x="611280" y="1821960"/>
            <a:chExt cx="7705800" cy="2508480"/>
          </a:xfrm>
        </p:grpSpPr>
        <p:sp>
          <p:nvSpPr>
            <p:cNvPr id="212" name=""/>
            <p:cNvSpPr/>
            <p:nvPr/>
          </p:nvSpPr>
          <p:spPr>
            <a:xfrm>
              <a:off x="2340000" y="2563920"/>
              <a:ext cx="3672000" cy="7207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99"/>
                  </a:solidFill>
                  <a:latin typeface="Verdana"/>
                </a:rPr>
                <a:t>Some places will b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280" y="3406320"/>
              <a:ext cx="2232000" cy="708120"/>
            </a:xfrm>
            <a:prstGeom prst="cloudCallout">
              <a:avLst>
                <a:gd name="adj1" fmla="val 55819"/>
                <a:gd name="adj2" fmla="val -65851"/>
              </a:avLst>
            </a:prstGeom>
            <a:solidFill>
              <a:srgbClr val="ccffc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wett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4720" y="1821960"/>
              <a:ext cx="2232360" cy="708120"/>
            </a:xfrm>
            <a:prstGeom prst="cloudCallout">
              <a:avLst>
                <a:gd name="adj1" fmla="val -72472"/>
                <a:gd name="adj2" fmla="val 51166"/>
              </a:avLst>
            </a:prstGeom>
            <a:solidFill>
              <a:srgbClr val="ebf7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cold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3280" y="3622320"/>
              <a:ext cx="2232000" cy="708120"/>
            </a:xfrm>
            <a:prstGeom prst="cloudCallout">
              <a:avLst>
                <a:gd name="adj1" fmla="val 24097"/>
                <a:gd name="adj2" fmla="val -101013"/>
              </a:avLst>
            </a:prstGeom>
            <a:solidFill>
              <a:srgbClr val="ffe497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dri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0360" y="3188880"/>
              <a:ext cx="2232000" cy="708120"/>
            </a:xfrm>
            <a:prstGeom prst="cloudCallout">
              <a:avLst>
                <a:gd name="adj1" fmla="val -62513"/>
                <a:gd name="adj2" fmla="val -51726"/>
              </a:avLst>
            </a:prstGeom>
            <a:solidFill>
              <a:srgbClr val="ff9b9b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Windi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71640" y="1893600"/>
              <a:ext cx="2232000" cy="708120"/>
            </a:xfrm>
            <a:prstGeom prst="cloudCallout">
              <a:avLst>
                <a:gd name="adj1" fmla="val 55884"/>
                <a:gd name="adj2" fmla="val 32263"/>
              </a:avLst>
            </a:prstGeom>
            <a:solidFill>
              <a:srgbClr val="ead5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Hott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09680" y="4718880"/>
            <a:ext cx="7988040" cy="10573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ey Ide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enhanced greenhouse effect helps the Earth stay warm/get hotter. The CO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stays the same/increases because we are burning fossil fuel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A0AC-ACFD-4C86-9017-95B254ADA0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y is the Antarctic so cold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1558800"/>
            <a:ext cx="2737080" cy="891000"/>
          </a:xfrm>
          <a:prstGeom prst="wedgeRoundRectCallout">
            <a:avLst>
              <a:gd name="adj1" fmla="val -43546"/>
              <a:gd name="adj2" fmla="val 12297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angle of the sun in the sk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1557360"/>
            <a:ext cx="2737080" cy="1286280"/>
          </a:xfrm>
          <a:prstGeom prst="wedgeRoundRectCallout">
            <a:avLst>
              <a:gd name="adj1" fmla="val -43532"/>
              <a:gd name="adj2" fmla="val 697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albedo of snow is about 90%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3805200"/>
            <a:ext cx="2737080" cy="496440"/>
          </a:xfrm>
          <a:prstGeom prst="wedgeRoundRectCallout">
            <a:avLst>
              <a:gd name="adj1" fmla="val -43532"/>
              <a:gd name="adj2" fmla="val 164925"/>
              <a:gd name="adj3" fmla="val 16667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n air is cle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933720"/>
            <a:ext cx="3168720" cy="2399760"/>
          </a:xfrm>
          <a:prstGeom prst="cloudCallout">
            <a:avLst>
              <a:gd name="adj1" fmla="val 58754"/>
              <a:gd name="adj2" fmla="val -6654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 why do all these make it colder then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9EBB-F2B7-4E05-9330-2A67A14D11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ummary of 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So Qu 1 is the map question – 15 marks –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All of Europe, in particular the EU countries – there are 25 of them, you will get 7 – of which 3 are likely to be sneak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(the list of the countries are on the classwork sheet)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n addition the following other countries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5D15-CF9A-4A35-AFE8-13219F4AE3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is the ozone layer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851040"/>
            <a:ext cx="3097080" cy="1286280"/>
          </a:xfrm>
          <a:prstGeom prst="wedgeRoundRectCallout">
            <a:avLst>
              <a:gd name="adj1" fmla="val -21157"/>
              <a:gd name="adj2" fmla="val 79291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zone is 3 atoms of oxygen joined togeth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907920"/>
            <a:ext cx="4176720" cy="1286280"/>
          </a:xfrm>
          <a:prstGeom prst="wedgeRoundRectCallout">
            <a:avLst>
              <a:gd name="adj1" fmla="val -20587"/>
              <a:gd name="adj2" fmla="val 80578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zone layer is a layer high above the earth containing ozone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2593800"/>
            <a:ext cx="4103640" cy="2076120"/>
          </a:xfrm>
          <a:prstGeom prst="wedgeRoundRectCallout">
            <a:avLst>
              <a:gd name="adj1" fmla="val -53166"/>
              <a:gd name="adj2" fmla="val 28620"/>
              <a:gd name="adj3" fmla="val 16667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zone layer protects the earth from UV light from the Sun getting through - UV damages living tissu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2920" y="5075280"/>
            <a:ext cx="3168720" cy="1836360"/>
          </a:xfrm>
          <a:prstGeom prst="cloudCallout">
            <a:avLst>
              <a:gd name="adj1" fmla="val 10365"/>
              <a:gd name="adj2" fmla="val -86708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y are CFCs so important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2637000"/>
            <a:ext cx="3168360" cy="1272240"/>
          </a:xfrm>
          <a:prstGeom prst="cloudCallout">
            <a:avLst>
              <a:gd name="adj1" fmla="val 58759"/>
              <a:gd name="adj2" fmla="val -6629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 where do CFCs fit in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933720"/>
            <a:ext cx="3168720" cy="1836360"/>
          </a:xfrm>
          <a:prstGeom prst="cloudCallout">
            <a:avLst>
              <a:gd name="adj1" fmla="val 58754"/>
              <a:gd name="adj2" fmla="val -7136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at is so bad about UV light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4200" y="4869000"/>
            <a:ext cx="2522880" cy="1836360"/>
          </a:xfrm>
          <a:prstGeom prst="cloudCallout">
            <a:avLst>
              <a:gd name="adj1" fmla="val 175"/>
              <a:gd name="adj2" fmla="val -86648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ll it ever get better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F9DD-6714-4BEF-B781-80DC3BACA2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516720" y="673200"/>
            <a:ext cx="2484360" cy="2395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are the issues of human impact on Antarctica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re are a lot of natural resourc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                            but so far no-one has shown inter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                                 in mining etc as it just too difficul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re is commercial fishing and                            there are pirates who are not obeying the rules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lotsam is an issue as it is hurting the wildlif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waste/rubbish/oil are all tightly controll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owever tourism is a growing issue as more people want to visi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sticking with tourism – what are the concern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C726-2B03-4793-96F2-B4009BA36B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Example – Antarctica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Factual: what is ozone? What chemical group destroy it? What damage does reduced ozone cause?  Etc or similar questions about global warming – or about why Antarctica is so col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Levelled question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Explain the main points of the Antarctic treaty of 1961 – o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Explain the concerns about Antarctic tourism and suggest ways they could taken account of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4F6B-28A8-49A7-86A7-2ABB0A2182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372360" y="260280"/>
            <a:ext cx="2520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Abbreviation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Est – Eston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Lat – Latv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Lith - Lithuan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Belg – Belgium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Neth – Netherland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Slov – Slovak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Aust – Austr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Hung – Hungary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Bul – Bulgar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Port – Portuga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Slo - Sloven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179280" y="189000"/>
            <a:ext cx="6248520" cy="645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30B8-24D2-41E3-AAC6-3AF46336D0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est of the lis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frica: Kenya, Egypt, South Africa, Nigeria, Zimbabwe, Sudan, Ethiopia, Somali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uth/Central America: Mexico, Brazil, Argentina, Chile, Columbi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ia/ Australasia (or Oceania): Australia, New Zealand, China, India, Saudi Arabia, Iran, Iraq, Bangladesh and the Tiger economies – see ov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You will get 8 of these – no sneaky ones just these!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477B-7CDC-4132-94DF-5669A47815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iger economi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14560" y="838080"/>
            <a:ext cx="6913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3BE8-AB32-44EC-B347-6ECB4D326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se are where the countries are!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327320"/>
            <a:ext cx="8713800" cy="47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A67B-971E-4DD6-9214-B857DFFEF5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other 3 questio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0920" y="105264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 gave a hint about GCSE type questions – how they are ‘levelled’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Level 1 ( 1 or 2 marks) – basic not explain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Level 2 (3 or 4 marks) – with a bit of explanatio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Level 3 (5 or 6) really well explain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So the general layout will be factual questions for qu2 - qu4 -  for 12 mark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And 2 levelled qus from one the sections onl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FAC3-6DE8-4268-8EFE-186A1139E6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Example – rocks and glaci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actual:  What are the labels on the diagram of the earth sec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mplete this table using these words to fill in about types of rock and how they are forme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bel 3 items on the diagram of a glaciated upla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velled question: as part of the process of forming sediments, rock is often weathered. Name all types of weathering and explain how 2 of them occu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xplain and give examples of how one agent of change alters the landscape by erosion, transportation and deposition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7A0F-23B0-4ACC-BCAB-85A11E414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Example – working worl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actual:  Complete this table using these words to fill in about the different kinds of economic activity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re 2 factors that would influence the siting a of factory producing ….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the UK, the number of people involved in secondary industry has halved between 1900 and 2000 – give 2 reasons for this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velled question: What caused South Korea to be able to develop so fast? [or explains the poor (or adverse) consequences …. ]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CC75-8E2A-471B-95AC-01EBADE5AE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4:32:13Z</dcterms:created>
  <dc:creator>Lindy</dc:creator>
  <dc:description/>
  <dc:language>en-US</dc:language>
  <cp:lastModifiedBy>Lindy</cp:lastModifiedBy>
  <dcterms:modified xsi:type="dcterms:W3CDTF">2009-06-13T15:10:17Z</dcterms:modified>
  <cp:revision>3</cp:revision>
  <dc:subject/>
  <dc:title>The last section of revi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